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0C47-DE09-4D01-A5AD-E68C5E57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881E-D8F8-422E-B518-78A184833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FF7-02D6-4B38-970D-518F50730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1722-7F84-483B-B16A-3BA1ED561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18CC2-1486-4D06-96D2-91494E6AE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60BF6-3D03-475D-BE68-870EB10A2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43A1-F16B-44E3-9C87-7CB9166D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211D-0F9C-40EB-A237-12A3876E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FFAD-669B-46B5-B6A4-AA540413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13AD-ECCA-44CC-BD3C-0ED3CA083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DCFE7-35D5-498C-8185-0A7AE4CC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24F7-A298-409D-89AB-1C9A40ABA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FBB56-BE85-4365-8F60-2807E48D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FAC47-75B5-4C4D-9298-5814020C7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9B23C-36A6-44AD-BB26-7304864C6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BB3E-27F5-4A63-BA4E-7EAB194CD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873F-DABC-4447-AA55-1DFDDC02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202F0E-39BB-4E1D-904B-E793959CA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1BA95-7B1D-4F60-BE0C-520E9D2E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70254-E3E7-4457-9830-A19B04EA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A4817-DC9E-4D0D-A607-2FD0C5175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10FF24-C64F-46B1-B0A1-43CC7B62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1E74-FD94-4BE4-A077-7C949156C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53E330-A2B3-467B-BE42-6FB89C22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976D8-11CC-4AE1-8D99-5FF6B9973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C2315-21C6-43A7-8DFA-0E5B3B36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8ED69-0479-4683-A646-3427F99EF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B6C0F-7D66-4B87-95C9-F809F92FB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6660D2-8E60-4EC1-A4E3-A75048F2A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BBE12-0BFA-40A1-A82D-E5073361F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11CE8-97D9-43D1-A64F-2F1FC9681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1548F-084E-4B14-8750-A34B8189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84D85-3BE2-4473-A5B1-E470ED14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7BB-3CBC-4142-A98E-4F13D805A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0734BC-B34C-4131-B27C-38BCDF02E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F1C869-EB44-4A09-9B2E-0A1F1DDBE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C6745-90A7-4ABD-A030-005CCA3C5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7B3EC7-B27F-4BAF-A80E-C8A5220D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913BE2-117A-416C-8E65-ED8121EE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E3DB59-C34D-4860-8007-1984BB25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F7BEC-957C-4027-923A-9AC5C974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2EBEB-EFC1-414B-AA1C-5E1A3F93A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6BAFF-DF5C-4B79-8598-7D21DD2FB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0971BA-B211-4FD3-91CC-55882CC91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4605-0A44-47AA-BCAA-B52C93F09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7F044F-05CB-4067-89C7-B384D1204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6C3916-1F87-45DF-A063-0C3685060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A1638-3483-4EBC-9EA0-406CF2FA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2A5825-4547-48B6-9817-D616EEC0E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E48F1E-78B8-4405-AD04-962F46D9A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7041A5-3ED1-44DD-A661-AB8DC8A6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63290-6B70-4E78-B21F-942F06C0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7A5570-5812-4F37-944C-5ECE57997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5B9DE-3E38-4B43-811F-C55DDC17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02DE1-7312-42BD-9763-2C1097D9D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3945-C907-46A1-91E6-D6B06920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D31A0A-4925-40C4-9A12-E2D659FCB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1BEA-E9E1-4223-9557-A1A1EA5A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D1A-91C5-4909-ABA0-C793F509A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301F-312E-443A-B6A5-02F8C794A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C8E5F-A4D5-4279-A006-91962C155431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Rounded Rectangle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aeb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CF08-3FAD-42C3-A52D-A3350FDDACC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Rounded Rectangle 10"/>
          <p:cNvGrpSpPr/>
          <p:nvPr/>
        </p:nvGrpSpPr>
        <p:grpSpPr>
          <a:xfrm>
            <a:off x="60480" y="60480"/>
            <a:ext cx="9028080" cy="6711840"/>
            <a:chOff x="60480" y="60480"/>
            <a:chExt cx="9028080" cy="6711840"/>
          </a:xfrm>
        </p:grpSpPr>
        <p:pic>
          <p:nvPicPr>
            <p:cNvPr id="91" name="Rounded Rectangle 10" descr=""/>
            <p:cNvPicPr/>
            <p:nvPr/>
          </p:nvPicPr>
          <p:blipFill>
            <a:blip r:embed="rId3"/>
            <a:stretch/>
          </p:blipFill>
          <p:spPr>
            <a:xfrm>
              <a:off x="60480" y="60480"/>
              <a:ext cx="9028080" cy="671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Rectangle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Rectangle 14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Rectangle 15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aeb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D99C-617A-40FA-90BC-A1794C2E0E38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Rounded Rectangle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EB4E-80B3-4267-BC55-25AC855CD936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Rounded Rectangle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Rectangle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Rectangle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aeba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75f6d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fec3a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b32c16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b32c16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5f6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5f6d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Franklin Gothic 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9658-9F74-46C5-8C84-770F4AEEEF2D}" type="slidenum">
              <a:rPr b="0" lang="en-US" sz="14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maccss.ncdpi.wikispaces.net/" TargetMode="External"/><Relationship Id="rId2" Type="http://schemas.openxmlformats.org/officeDocument/2006/relationships/hyperlink" Target="http://commoncoretasks.wikispaces.com/" TargetMode="External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295280" y="510516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75f6d"/>
                </a:solidFill>
                <a:latin typeface="Perpetua"/>
              </a:rPr>
              <a:t>August 16, 2012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Franklin Gothic Book"/>
              </a:rPr>
              <a:t>K-2 Assessments</a:t>
            </a:r>
            <a:endParaRPr b="0" lang="en-US" sz="60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Franklin Gothic Book"/>
              </a:rPr>
              <a:t>Then and NOW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248" name="Diagram 3" descr=""/>
          <p:cNvPicPr/>
          <p:nvPr/>
        </p:nvPicPr>
        <p:blipFill>
          <a:blip r:embed="rId1"/>
          <a:stretch/>
        </p:blipFill>
        <p:spPr>
          <a:xfrm>
            <a:off x="133200" y="1292400"/>
            <a:ext cx="8871120" cy="53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Franklin Gothic Book"/>
              </a:rPr>
              <a:t>Then and NOW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250" name="Diagram 3" descr=""/>
          <p:cNvPicPr/>
          <p:nvPr/>
        </p:nvPicPr>
        <p:blipFill>
          <a:blip r:embed="rId1"/>
          <a:stretch/>
        </p:blipFill>
        <p:spPr>
          <a:xfrm>
            <a:off x="133200" y="1292400"/>
            <a:ext cx="8871120" cy="53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Franklin Gothic Book"/>
              </a:rPr>
              <a:t>Assessment Item Bank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9144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Provided on DPI Wiki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Assessment Booklet (directions, tasks, blackline masters) will be provided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Timeline by quarter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0880" y="151920"/>
            <a:ext cx="8305920" cy="670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Perpetua"/>
              </a:rPr>
              <a:t>Assessment Wiki</a:t>
            </a:r>
            <a:endParaRPr b="0" lang="en-US" sz="4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PI Wiki:  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Perpetua"/>
                <a:hlinkClick r:id="rId1"/>
              </a:rPr>
              <a:t>http://maccss.ncdpi.wikispaces.net/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K-2 Assessment Wiki:  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	</a:t>
            </a:r>
            <a:r>
              <a:rPr b="0" lang="en-US" sz="2800" spc="-1" strike="noStrike" u="sng">
                <a:solidFill>
                  <a:srgbClr val="d2611c"/>
                </a:solidFill>
                <a:uFillTx/>
                <a:latin typeface="Perpetua"/>
                <a:hlinkClick r:id="rId2"/>
              </a:rPr>
              <a:t>http://commoncoretasks.wikispaces.com/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0000" indent="-270000">
              <a:lnSpc>
                <a:spcPct val="9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4" name="Picture 3" descr=""/>
          <p:cNvPicPr/>
          <p:nvPr/>
        </p:nvPicPr>
        <p:blipFill>
          <a:blip r:embed="rId3"/>
          <a:srcRect l="0" t="5966" r="0" b="0"/>
          <a:stretch/>
        </p:blipFill>
        <p:spPr>
          <a:xfrm>
            <a:off x="838080" y="762120"/>
            <a:ext cx="7620120" cy="46479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4" descr=""/>
          <p:cNvPicPr/>
          <p:nvPr/>
        </p:nvPicPr>
        <p:blipFill>
          <a:blip r:embed="rId4"/>
          <a:stretch/>
        </p:blipFill>
        <p:spPr>
          <a:xfrm>
            <a:off x="6019920" y="1752480"/>
            <a:ext cx="2361960" cy="3429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c1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80520" y="2743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Franklin Gothic Book"/>
              </a:rPr>
              <a:t>Grade Level Assessment Tasks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58" name="Picture 3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861084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cc1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Franklin Gothic Book"/>
              </a:rPr>
              <a:t>Assessment Tasks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1"/>
          <a:stretch/>
        </p:blipFill>
        <p:spPr>
          <a:xfrm>
            <a:off x="228600" y="1447920"/>
            <a:ext cx="8686800" cy="4190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440" y="5331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900" spc="-1" strike="noStrike">
                <a:solidFill>
                  <a:srgbClr val="575f6d"/>
                </a:solidFill>
                <a:latin typeface="Franklin Gothic Book"/>
              </a:rPr>
              <a:t>Blackline Masters </a:t>
            </a:r>
            <a:br>
              <a:rPr sz="4900"/>
            </a:br>
            <a:r>
              <a:rPr b="1" lang="en-US" sz="4900" spc="-1" strike="noStrike">
                <a:solidFill>
                  <a:srgbClr val="575f6d"/>
                </a:solidFill>
                <a:latin typeface="Franklin Gothic Book"/>
              </a:rPr>
              <a:t>&amp; Student Forms</a:t>
            </a:r>
            <a:endParaRPr b="0" lang="en-US" sz="49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4" name="Picture 3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104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rcRect l="4236" t="8131" r="7623" b="3645"/>
          <a:stretch/>
        </p:blipFill>
        <p:spPr>
          <a:xfrm>
            <a:off x="990720" y="152280"/>
            <a:ext cx="579096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120" y="2743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75f6d"/>
                </a:solidFill>
                <a:latin typeface="Franklin Gothic Book"/>
              </a:rPr>
              <a:t>Common Core Math Standards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0" name="Picture 3" descr=""/>
          <p:cNvPicPr/>
          <p:nvPr/>
        </p:nvPicPr>
        <p:blipFill>
          <a:blip r:embed="rId1"/>
          <a:srcRect l="7157" t="15451" r="8682" b="69940"/>
          <a:stretch/>
        </p:blipFill>
        <p:spPr>
          <a:xfrm>
            <a:off x="228600" y="1371600"/>
            <a:ext cx="8399520" cy="1905120"/>
          </a:xfrm>
          <a:prstGeom prst="rect">
            <a:avLst/>
          </a:prstGeom>
          <a:ln w="0">
            <a:noFill/>
          </a:ln>
        </p:spPr>
      </p:pic>
      <p:sp>
        <p:nvSpPr>
          <p:cNvPr id="271" name="Rounded Rectangle 4"/>
          <p:cNvSpPr/>
          <p:nvPr/>
        </p:nvSpPr>
        <p:spPr>
          <a:xfrm>
            <a:off x="2203560" y="2971800"/>
            <a:ext cx="6330960" cy="3733920"/>
          </a:xfrm>
          <a:prstGeom prst="roundRect">
            <a:avLst>
              <a:gd name="adj" fmla="val 16667"/>
            </a:avLst>
          </a:prstGeom>
          <a:solidFill>
            <a:srgbClr val="c8d6f0"/>
          </a:solidFill>
          <a:ln w="1260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70c0"/>
                </a:solidFill>
                <a:uFillTx/>
                <a:latin typeface="Perpetua"/>
              </a:rPr>
              <a:t>Domain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Perpetua"/>
              </a:rPr>
              <a:t>Large group of related standard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7030a0"/>
                </a:solidFill>
                <a:uFillTx/>
                <a:latin typeface="Perpetua"/>
              </a:rPr>
              <a:t>Cluster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Perpetua"/>
              </a:rPr>
              <a:t>Groups of related standard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b050"/>
                </a:solidFill>
                <a:uFillTx/>
                <a:latin typeface="Perpetua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50"/>
                </a:solidFill>
                <a:latin typeface="Perpetua"/>
              </a:rPr>
              <a:t>Define what students should understand and be able to do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74" name="Picture 3" descr=""/>
          <p:cNvPicPr/>
          <p:nvPr/>
        </p:nvPicPr>
        <p:blipFill>
          <a:blip r:embed="rId1"/>
          <a:stretch/>
        </p:blipFill>
        <p:spPr>
          <a:xfrm>
            <a:off x="-76320" y="-152280"/>
            <a:ext cx="5867640" cy="701028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4" descr=""/>
          <p:cNvPicPr/>
          <p:nvPr/>
        </p:nvPicPr>
        <p:blipFill>
          <a:blip r:embed="rId2"/>
          <a:stretch/>
        </p:blipFill>
        <p:spPr>
          <a:xfrm>
            <a:off x="2895480" y="2895480"/>
            <a:ext cx="5943600" cy="2386080"/>
          </a:xfrm>
          <a:prstGeom prst="rect">
            <a:avLst/>
          </a:prstGeom>
          <a:ln w="0">
            <a:noFill/>
          </a:ln>
        </p:spPr>
      </p:pic>
      <p:sp>
        <p:nvSpPr>
          <p:cNvPr id="276" name="Rounded Rectangle 5"/>
          <p:cNvSpPr/>
          <p:nvPr/>
        </p:nvSpPr>
        <p:spPr>
          <a:xfrm>
            <a:off x="6095880" y="1219320"/>
            <a:ext cx="2971800" cy="19047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1260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Developing Understanding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 student exhibits one OR more of the indicators; 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Student understanding is still evolving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7" name="Rounded Rectangle 6"/>
          <p:cNvSpPr/>
          <p:nvPr/>
        </p:nvSpPr>
        <p:spPr>
          <a:xfrm>
            <a:off x="5638680" y="4952880"/>
            <a:ext cx="2971800" cy="1905120"/>
          </a:xfrm>
          <a:prstGeom prst="roundRect">
            <a:avLst>
              <a:gd name="adj" fmla="val 16667"/>
            </a:avLst>
          </a:prstGeom>
          <a:solidFill>
            <a:srgbClr val="acc1e8"/>
          </a:solidFill>
          <a:ln w="1260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Perpetua"/>
              </a:rPr>
              <a:t>Complete Understanding: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erpetua"/>
              </a:rPr>
              <a:t>A student exhibits ALL of the indicators listed; student has demonstrated proficiency with the concept/skill on that particular task</a:t>
            </a: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Franklin Gothic Book"/>
              </a:rPr>
              <a:t>Formative Assessment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9144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What is formative assessment?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Select a few words or phrases to describe formative assessment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-76320" y="-152280"/>
            <a:ext cx="5867640" cy="70102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"/>
          <p:cNvPicPr/>
          <p:nvPr/>
        </p:nvPicPr>
        <p:blipFill>
          <a:blip r:embed="rId2"/>
          <a:srcRect l="0" t="7996" r="0" b="0"/>
          <a:stretch/>
        </p:blipFill>
        <p:spPr>
          <a:xfrm>
            <a:off x="2666880" y="2666880"/>
            <a:ext cx="6400800" cy="1752840"/>
          </a:xfrm>
          <a:prstGeom prst="rect">
            <a:avLst/>
          </a:prstGeom>
          <a:ln w="0">
            <a:noFill/>
          </a:ln>
        </p:spPr>
      </p:pic>
      <p:sp>
        <p:nvSpPr>
          <p:cNvPr id="282" name="Rounded Rectangle 8"/>
          <p:cNvSpPr/>
          <p:nvPr/>
        </p:nvSpPr>
        <p:spPr>
          <a:xfrm>
            <a:off x="4876920" y="4648320"/>
            <a:ext cx="4038480" cy="190476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1260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Assessment Tasks may be altered to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erpetua"/>
              </a:rPr>
              <a:t>change the names, setting, or layout of the task.  *Use caution when changing numbers -- they were selected for a very particular reason.</a:t>
            </a:r>
            <a:endParaRPr b="0" lang="en-US" sz="2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-76320" y="-152280"/>
            <a:ext cx="5715000" cy="7010280"/>
          </a:xfrm>
          <a:prstGeom prst="rect">
            <a:avLst/>
          </a:prstGeom>
          <a:ln w="0">
            <a:noFill/>
          </a:ln>
        </p:spPr>
      </p:pic>
      <p:pic>
        <p:nvPicPr>
          <p:cNvPr id="285" name="Content Placeholder 5" descr=""/>
          <p:cNvPicPr/>
          <p:nvPr/>
        </p:nvPicPr>
        <p:blipFill>
          <a:blip r:embed="rId2"/>
          <a:srcRect l="6302" t="61669" r="6302" b="20000"/>
          <a:stretch/>
        </p:blipFill>
        <p:spPr>
          <a:xfrm>
            <a:off x="1943280" y="2514600"/>
            <a:ext cx="7200720" cy="2057400"/>
          </a:xfrm>
          <a:prstGeom prst="rect">
            <a:avLst/>
          </a:prstGeom>
          <a:ln w="0">
            <a:noFill/>
          </a:ln>
        </p:spPr>
      </p:pic>
      <p:sp>
        <p:nvSpPr>
          <p:cNvPr id="286" name="Rounded Rectangle 6"/>
          <p:cNvSpPr/>
          <p:nvPr/>
        </p:nvSpPr>
        <p:spPr>
          <a:xfrm>
            <a:off x="4724280" y="4343400"/>
            <a:ext cx="3505320" cy="2209680"/>
          </a:xfrm>
          <a:prstGeom prst="roundRect">
            <a:avLst>
              <a:gd name="adj" fmla="val 16667"/>
            </a:avLst>
          </a:prstGeom>
          <a:solidFill>
            <a:srgbClr val="fe8637"/>
          </a:solidFill>
          <a:ln w="1260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Perpetua"/>
              </a:rPr>
              <a:t>Practices that are likely to emerge as a result of completing the task are noted in BOLD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575f6d"/>
                </a:solidFill>
                <a:latin typeface="Franklin Gothic Book"/>
              </a:rPr>
              <a:t>Ways to Organize Student Data</a:t>
            </a:r>
            <a:endParaRPr b="0" lang="en-US" sz="48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914400" y="15998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Make notes on the Task Direction shee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Individual student recording form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lass summary sheet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Portfolios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419112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75f6d"/>
                </a:solidFill>
                <a:latin typeface="Franklin Gothic Book"/>
              </a:rPr>
              <a:t>Class and Student Summaries</a:t>
            </a:r>
            <a:endParaRPr b="0" lang="en-US" sz="36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609120" y="1523880"/>
            <a:ext cx="342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40120" indent="-2401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Help teachers collect and organize data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Organized by Domain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y copy, edit, or revise as needed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DU:  Developing Understand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U:  Complete Understand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marL="240120" indent="-2401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Mathematical Practices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91" name="Picture 3" descr=""/>
          <p:cNvPicPr/>
          <p:nvPr/>
        </p:nvPicPr>
        <p:blipFill>
          <a:blip r:embed="rId1"/>
          <a:srcRect l="0" t="5685" r="4480" b="3411"/>
          <a:stretch/>
        </p:blipFill>
        <p:spPr>
          <a:xfrm>
            <a:off x="4038480" y="380880"/>
            <a:ext cx="4876920" cy="6096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74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Franklin Gothic Book"/>
              </a:rPr>
              <a:t>Summative Assessments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48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Mid-Year Assessment &amp; Summative Assessment (end of the year)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Provided by DPI and distributed by the district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Testing window designated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Copies provided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75f6d"/>
              </a:solidFill>
              <a:latin typeface="Perpetu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Franklin Gothic Book"/>
              </a:rPr>
              <a:t>Questions?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4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Franklin Gothic Book"/>
              </a:rPr>
              <a:t>K-2 Assessments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228240" y="12193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equired by the NC legislature and State Board of Education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ssessments must include documented, on-going individualized assessments throughout the year and a summative evaluation at the end of the year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4" name="Diagram 3" descr=""/>
          <p:cNvPicPr/>
          <p:nvPr/>
        </p:nvPicPr>
        <p:blipFill>
          <a:blip r:embed="rId1"/>
          <a:stretch/>
        </p:blipFill>
        <p:spPr>
          <a:xfrm>
            <a:off x="1743120" y="2584440"/>
            <a:ext cx="7711920" cy="40784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6212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75f6d"/>
                </a:solidFill>
                <a:latin typeface="Franklin Gothic Book"/>
              </a:rPr>
              <a:t>Formative Assessment</a:t>
            </a:r>
            <a:endParaRPr b="0" lang="en-US" sz="60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7524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A process used by teachers and students during instruction that provides feedback to adjust ongoing teaching and learning to help students improve their achievement of intended instructional outcomes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Franklin Gothic Book"/>
              </a:rPr>
              <a:t>Formative Assessment Tasks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228240" y="16002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etermine prior knowledg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ssess understanding throughout the instructional sequence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Determine if a student is developing understanding or has achieved proficiency/mastery of a concept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61720" indent="-2617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Assess understanding after instruction of a concept (or set of concepts) to determine if all students are proficient and are ready to move forward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668c4"/>
                </a:solidFill>
                <a:latin typeface="Franklin Gothic Book"/>
              </a:rPr>
              <a:t>Formative Instructional and Assessment Tasks</a:t>
            </a:r>
            <a:endParaRPr b="0" lang="en-US" sz="4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28240" y="1752120"/>
            <a:ext cx="88390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Aligned with the Common Core State Standards for Mathematics 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19840" indent="-21708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Content Standards &amp; Mathematical Practices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Designed to reveal the extent to which a student knows and understands specific concept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Tasks focus on thinking and processes students use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Provide opportunities for students to demonstrate their knowledge, skill, and understanding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59200" indent="-25920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Move beyond only whether an answer is right or wro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Franklin Gothic Book"/>
              </a:rPr>
              <a:t>Types of Tasks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228240" y="16002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50920" indent="-2509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terviews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eacher asks questions, poses problems, or sets up learning activity  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eacher listens to student responses and observes student’s strategies and think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Written Responses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Teacher presents a problem to one or more students 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erpetua"/>
              </a:rPr>
              <a:t>Students use pictures, numbers, and words to show their thinking and explain their reasoning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lvl="1" marL="503640" indent="-21024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  <a:p>
            <a:pPr marL="250920" indent="-25092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Both tasks provide students with opportunities to demonstrate what they know and how they can apply their understanding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Franklin Gothic Book"/>
              </a:rPr>
              <a:t>Task Administration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228240" y="12193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26440" indent="-22644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Tasks may be administered to a whole class, small group of children, or an individual student --- depending on the purpose of the task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Some tasks assess multiple standards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Teacher becomes an observer to gain information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Refrain from coaching, prompting, or targeted questioning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lvl="1" marL="454320" indent="-189720">
              <a:spcBef>
                <a:spcPts val="374"/>
              </a:spcBef>
              <a:buClr>
                <a:srgbClr val="7598d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erpetua"/>
              </a:rPr>
              <a:t>Interpretations of students’ understanding must be accurate </a:t>
            </a:r>
            <a:endParaRPr b="0" lang="en-US" sz="2800" spc="-1" strike="noStrike">
              <a:solidFill>
                <a:srgbClr val="000000"/>
              </a:solidFill>
              <a:latin typeface="Perpetua"/>
            </a:endParaRPr>
          </a:p>
          <a:p>
            <a:pPr marL="226440" indent="-226440">
              <a:spcBef>
                <a:spcPts val="575"/>
              </a:spcBef>
              <a:buClr>
                <a:srgbClr val="fe863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Perpetua"/>
              </a:rPr>
              <a:t>Assessment tasks should be combined with other information (student products, classwork, anecdotal records) to gain an accurate picture of a student’s ability and understanding of mathematics</a:t>
            </a:r>
            <a:endParaRPr b="0" lang="en-US" sz="30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575f6d"/>
                </a:solidFill>
                <a:latin typeface="Franklin Gothic Book"/>
              </a:rPr>
              <a:t>Then and NOW</a:t>
            </a:r>
            <a:endParaRPr b="0" lang="en-US" sz="5400" spc="-1" strike="noStrike">
              <a:solidFill>
                <a:srgbClr val="575f6d"/>
              </a:solidFill>
              <a:latin typeface="Franklin Gothic Book"/>
            </a:endParaRPr>
          </a:p>
        </p:txBody>
      </p:sp>
      <p:pic>
        <p:nvPicPr>
          <p:cNvPr id="246" name="Diagram 3" descr=""/>
          <p:cNvPicPr/>
          <p:nvPr/>
        </p:nvPicPr>
        <p:blipFill>
          <a:blip r:embed="rId1"/>
          <a:stretch/>
        </p:blipFill>
        <p:spPr>
          <a:xfrm>
            <a:off x="133200" y="1292400"/>
            <a:ext cx="8871120" cy="53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28:54Z</dcterms:created>
  <dc:creator>afloyd</dc:creator>
  <dc:description/>
  <dc:language>en-US</dc:language>
  <cp:lastModifiedBy>afloyd</cp:lastModifiedBy>
  <dcterms:modified xsi:type="dcterms:W3CDTF">2012-08-16T04:12:06Z</dcterms:modified>
  <cp:revision>31</cp:revision>
  <dc:subject/>
  <dc:title>K-2 Assessments</dc:title>
</cp:coreProperties>
</file>